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AA90-AE2E-45AA-AE9F-7BC961C7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780E-824D-49C6-B826-17709406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8D0B-61DA-48D6-8556-FA9C916E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F93B-024A-4B7C-932C-E73812F3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E6DA-4D4B-41A8-8F5F-461C1749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9A92-62E5-4E04-BE53-507A7647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A4B0-3F1B-4E37-9765-CFB431DC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53E9-FB8F-4413-A941-E549657B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1844-E9A7-478E-ACE8-276AFC25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2DC4-B71C-41D5-876E-05F217B7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785C-059F-43FE-9494-95803954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27F6-1A05-4F9C-9E23-3EB5FB39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6213-AF28-4BF8-8376-BBAA6B3C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AC71-7405-4F43-B45E-11B829E5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7B44-DC13-498D-8763-8494B2FF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4E73-B576-45F1-BBB8-E8A714AE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B1E4-3C20-4183-A9EF-330ACE02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240D-581A-43CE-B0DD-6AD582EA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E3C4-8AAD-4BAA-9216-94E30D20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C5AD-A638-4F3B-A4A0-9EADD646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2DCE-2E8B-43E1-8D3F-BF4276B0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C141-4682-4FEA-88C0-E3EE1BA1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DD0A-99BE-4403-91C7-DA6108F2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F325-596E-46EC-9792-A249A27F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EC54-1422-4CC7-84C0-831BDADCAE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279E-E8A5-49C4-93CA-5F0814FA32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wakefield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86600" y="4952880"/>
            <a:ext cx="2057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ison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/11/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228600"/>
            <a:ext cx="72388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The Chocolate Chip Cookie</a:t>
            </a:r>
            <a:endParaRPr b="1" i="1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2133360" cy="2209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053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Invented by: Ruth Wake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19520" y="6019920"/>
            <a:ext cx="36576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Cold Kil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6/1/11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freeplaymusic.co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Wakefield"/>
          <p:cNvPicPr/>
          <p:nvPr/>
        </p:nvPicPr>
        <p:blipFill>
          <a:blip r:embed="rId1"/>
          <a:srcRect l="0" t="-7595" r="0" b="0"/>
          <a:stretch/>
        </p:blipFill>
        <p:spPr>
          <a:xfrm>
            <a:off x="1066680" y="2438280"/>
            <a:ext cx="4953240" cy="2514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Wakefield"/>
          <p:cNvPicPr/>
          <p:nvPr/>
        </p:nvPicPr>
        <p:blipFill>
          <a:blip r:embed="rId2"/>
          <a:srcRect l="0" t="3424" r="0" b="0"/>
          <a:stretch/>
        </p:blipFill>
        <p:spPr>
          <a:xfrm>
            <a:off x="6019920" y="2666880"/>
            <a:ext cx="166680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685800"/>
            <a:ext cx="6934320" cy="20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3503"/>
                </a:solidFill>
                <a:latin typeface="Papyrus"/>
              </a:rPr>
              <a:t>Lemelson MIT Program, </a:t>
            </a:r>
            <a:r>
              <a:rPr b="0" lang="en-US" sz="2100" spc="-1" strike="noStrike" u="sng">
                <a:solidFill>
                  <a:srgbClr val="773503"/>
                </a:solidFill>
                <a:uFillTx/>
                <a:latin typeface="Papyrus"/>
              </a:rPr>
              <a:t>Ruth Wakefield</a:t>
            </a:r>
            <a:r>
              <a:rPr b="0" lang="en-US" sz="2100" spc="-1" strike="noStrike">
                <a:solidFill>
                  <a:srgbClr val="773503"/>
                </a:solidFill>
                <a:latin typeface="Papyrus"/>
              </a:rPr>
              <a:t>, 5/16/11,</a:t>
            </a:r>
            <a:r>
              <a:rPr b="0" lang="en-US" sz="21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2100" spc="-1" strike="noStrike" u="sng">
                <a:solidFill>
                  <a:srgbClr val="ffcc00"/>
                </a:solidFill>
                <a:uFillTx/>
                <a:latin typeface="Papyrus"/>
                <a:hlinkClick r:id="rId3"/>
              </a:rPr>
              <a:t>http://web.mit.edu/invent/iow/wakefield.html</a:t>
            </a:r>
            <a:r>
              <a:rPr b="0" lang="en-US" sz="2100" spc="-1" strike="noStrike" u="sng">
                <a:solidFill>
                  <a:srgbClr val="000514"/>
                </a:solidFill>
                <a:uFillTx/>
                <a:latin typeface="Papyrus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hocolate Chip </a:t>
            </a:r>
            <a:r>
              <a:rPr b="1" lang="en-US" sz="4400" spc="-1" strike="noStrike">
                <a:solidFill>
                  <a:srgbClr val="e5e5ff"/>
                </a:solidFill>
                <a:latin typeface="Centaur"/>
              </a:rPr>
              <a:t>Cook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3503"/>
                </a:solidFill>
                <a:latin typeface="Papyrus"/>
              </a:rPr>
              <a:t>The chocolate chip cookie started out as a Butter Drop Do Cooki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Papyrus"/>
              </a:rPr>
              <a:t>The cookie was created on accid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3503"/>
                </a:solidFill>
                <a:latin typeface="Papyrus"/>
              </a:rPr>
              <a:t>It increased the sales for the Nestle chocolate b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Papyrus"/>
              </a:rPr>
              <a:t>There are many different recipes today on how to make the same recipe taste different or even better.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entaur"/>
              </a:rPr>
              <a:t>Inventor: Ruth Wakefield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514"/>
                </a:solidFill>
                <a:latin typeface="Papyrus"/>
              </a:rPr>
              <a:t>Ruth graduated from the Framingham State Normal School Department of Household Arts in 1924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3503"/>
                </a:solidFill>
                <a:latin typeface="Papyrus"/>
              </a:rPr>
              <a:t>After graduating she worked as a dietitian and food lecturer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514"/>
                </a:solidFill>
                <a:latin typeface="Papyrus"/>
              </a:rPr>
              <a:t>Her and her husband decided to purchase a Cape Cod-style toll house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3503"/>
                </a:solidFill>
                <a:latin typeface="Papyrus"/>
              </a:rPr>
              <a:t>One day, Ruth was making Butter Drop Do Cookies and she ran out of baker’s chocolate. She added semi-sweet chocolate pieces assuming that it would melt into the cookie as it baked in the oven. The chocolate held its shape and became gooey and creamy.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514"/>
                </a:solidFill>
                <a:latin typeface="Papyrus"/>
              </a:rPr>
              <a:t>Ruth Wakefield had invented the chocolate chip cookie with help from Nestle with their semi-sweet chocolate bar.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3503"/>
                </a:solidFill>
                <a:latin typeface="Papyrus"/>
              </a:rPr>
              <a:t>Nestle printed Ruth’s recipe on the back of the Nestle bag for the chocolate for many to enjoy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514"/>
                </a:solidFill>
                <a:latin typeface="Papyrus"/>
              </a:rPr>
              <a:t>The chocolate chip cookie today is enjoyed be many people world-wide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2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7Z</dcterms:created>
  <dc:creator>install</dc:creator>
  <dc:description/>
  <dc:language>en-US</dc:language>
  <cp:lastModifiedBy>install</cp:lastModifiedBy>
  <dcterms:modified xsi:type="dcterms:W3CDTF">2011-06-01T17:35:52Z</dcterms:modified>
  <cp:revision>13</cp:revision>
  <dc:subject/>
  <dc:title>Slide 1</dc:title>
</cp:coreProperties>
</file>